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18A6-5284-425A-9710-437033ED9751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0DC3-E797-4A8F-8F55-B95CB824C5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B7A2-F369-4F6E-87FC-1ACF307B17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B836-81B8-4B39-9DA5-4AF4969B2C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6BB8-9A71-4911-BE2D-ABF2DDC511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5609-8E05-4A1C-B0EE-36FA784330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E03C-DE0E-4E93-90A4-6E1FEB67B4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3E74-8D1C-42E2-AD56-F6463AE415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4BF-D82F-4ED7-87A0-F7AB411F8D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28DC-8CB7-4246-8923-77C1112A0D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A2AD-9A13-4B5F-AAD9-08BDA21996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CC65-E4C6-406D-9C9B-5112F912E3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CE7F-74CE-4C68-BF3C-12A85BC2F1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6A5-BF09-488E-AFFB-ADE1881CB8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2E88-EF1B-4710-8B0C-78C543F6F0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B9D-AB77-4404-9957-C47CD8250E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B64F-37F4-417E-8B6E-9169889FBE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2F95-D1FC-4021-8615-0CB4146E29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7D85-8782-4EEE-84C3-FA9D3B52A7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457C-EE9D-4EFF-8D8D-87FE6879942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BDB5-A23B-4F06-9E30-1A2FB25765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0375-B688-4378-8AA4-59AAB684C0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D58A-5700-467B-918D-CF27CA0BA4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83D6-75E2-4DC1-9E9F-CEBC7FBAE9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6971-F79E-47DD-B542-12926834DD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BF2-49A1-4037-8A62-62A7FC9C33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84D9-0CC9-4739-8D1B-84503AC4A9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CBF-48BE-4E52-B04C-07E2913F02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224A-CB81-4D12-ADD3-B503303275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90D5-83D7-4571-AF15-69E76A70BD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AFF-951D-4F39-83D4-8A016172F3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53ED-0AE5-4C16-BEBE-34AEFE0274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359A-2400-479D-A647-226EDCC27E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C84B-592F-46F4-8368-D1B7C0BDA6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462-FF08-499F-9F81-91B83F2B73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637-0A93-4237-966F-ABA0046956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6A3A-951B-4D7A-9E7B-6824197465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12D0-CB6F-471D-A391-D00031CA30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070E-7251-4C08-B3F4-1F3950D77D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5D57-11E6-41B9-A74C-544EA1EADF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3A85-0970-454B-8FE8-88688BD58E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A520-3F38-4B47-928A-7AF8BEF58D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F658-C02E-4C98-91DD-405875F455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1AD8-1759-4D6B-A712-E9D0D6F6CD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3513-1A3A-4B5C-8FD4-FCBB74E99D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194-13FA-4F30-84D4-EC06C3DC35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E518-0228-4DC3-A9D6-2212759EEA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B99E-8218-4E8C-ADCC-3D17F3117F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0364-F693-4A4B-850D-3F161A0DAB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5EC5-838A-4102-9313-B9C4FB5E50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A6BD-878B-46AE-9607-1D2C3F1F2D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0AB9-5651-4946-AF2E-87C1441FDF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9086-C257-42B2-A251-6EB1A7EC25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DA2B-5550-46C3-BF0C-72E6D416F6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92F-A9F7-4586-8048-5A80CD99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80A-C339-472E-9C02-BCA9A87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7F2-184F-47D9-BD73-5ED4C95B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2F0-DC70-455E-A946-3BDD742C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877-9E68-41C5-907B-646A700E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28B-A5B0-4887-9174-99EEC74C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3C3-08E7-4B7F-90DF-14BA3C26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6C2-6A68-4CB8-A111-5520464F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4CF-DAAD-46DB-8B70-1A70EBC7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B77-482F-4370-8404-DA086DA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F1C-80D3-4C79-BBCC-239F940C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0F3-24FB-4B62-A51E-E472DB8A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1212-5DE9-4F68-B1BD-9E2A691841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4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4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4-11-12T15:18:47Z</dcterms:modified>
  <cp:revision>99</cp:revision>
  <dc:subject/>
  <dc:title>Aims and Objectives</dc:title>
</cp:coreProperties>
</file>